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6261F-DEFA-417B-9F00-8BEFA8718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BFDA2-EA9D-42D9-895A-0DB0FDC0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7B747-E68F-4F1C-BA43-28DA93155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4E7B2-6D58-4862-BCD5-B025C35F3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5AE4-2DEB-40ED-A43A-B2FFF3FBB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061B-BC23-432E-9E6B-0A969EDC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2672-186A-483D-8CDD-F59F86CD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B44A-AB5D-45A7-A60F-62A5C9B4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1607-518F-4743-875E-20238436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CAF5-C217-43DE-8543-96690018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E876-A39A-4DDF-A453-1D4DFE7E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0E67A-CFE0-4E8C-934C-AC9F68DE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8344-7F6D-495A-BC7B-556BB4A6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7D4E-536C-4FC0-9B84-25B35067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4273-CC5A-4A25-B228-E6B2C330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594D-B2BA-42B4-8075-0CAC6FC9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2A06-4EB9-4A6C-A90D-D486DF18B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1EA6C-19FF-45C6-A789-0189575D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8A8B5-3C4B-437D-891A-0397B67F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67422-F15F-4D79-947A-D1E7BBF4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3E859-2E05-44C9-8F54-56B1A3C1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AC3D6-3A19-44B0-8365-9C5EF30D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C865A-E0EF-47EA-93A7-00487560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9D24A-06E6-4E21-B8E2-6D1BE41D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572F-3BA0-475E-95BE-A7FDE82249C5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0234-F040-40E2-8BCC-4EFDD7B2A427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540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(891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Кога Господ преблажен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ойде кат цар нам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ни вземе веч спасен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в небесний храм,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ие ще бъдем тогав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то светли звезди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в небесната слав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то бисер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541440" y="1748880"/>
            <a:ext cx="1008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ще вземе и децат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гърдите С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щото Нему сърцат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доха те вси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ие ще бъдем тогав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то светли звезди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в небесната слав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то бисер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50120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О, вий, малки и голем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едайте Му се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ще ви спаси и взем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рая отнесе.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ие ще бъдем тогав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то светли звезди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в небесната слав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то бисер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1-10T10:06:06Z</dcterms:modified>
  <cp:revision>202</cp:revision>
  <dc:subject/>
  <dc:title>Slide 1</dc:title>
</cp:coreProperties>
</file>